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752013" cy="6854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9AA-B9E9-40FE-8C55-563DAB1D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7A5-3583-4610-A970-5E97C9D7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5C7-3242-4D54-A5DC-7FD86AC1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8FD-4D3F-4CA9-80D4-5D95679C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A5D-4292-40F5-9F3B-F51E20BE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855-90F3-41A7-85E5-58ED0EA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834-3BA7-4774-9C04-44C3D0F9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6F28-0863-4B01-B8E9-8490307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420-849E-4061-BC5A-480CD23E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1CF-BBA7-4318-80F1-8609600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127-50F6-4E77-BBC4-3052B91A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D24-7E0F-4517-BD39-25F0B664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CFC-416B-4346-ADC2-0B0DA3F3B1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рмины  и определения или с чего начинается единое экономическое простран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9640" y="4437000"/>
            <a:ext cx="82296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5445000"/>
            <a:ext cx="864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нтябрь 2010 г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ый Алматинский Международный Форум по Каче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2492280"/>
            <a:ext cx="0" cy="410544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38172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532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III. Меры, обеспечивающие выполнение требований к продук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6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7. Стандартизация (добровольные требования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8. Обязательные требования к процесса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9. Оценка соответ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1.  Испыт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2.  Контрол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3.  Подтверждение соответств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4.  Аккредитаци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5.  Одобрение (разрешение, утверждение типа и т.д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6.  Регистрац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7.  Лицензирова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8.  Прослеживаем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9.  Государственный контро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1. Страхование гражданско-правовой ответствен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2. Общественный контроль (контроль потребителей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3. Ответственность   за   несоблюдение   законодательства   о  техническом регулировании</a:t>
            </a:r>
            <a:br>
              <a:rPr sz="1800"/>
            </a:br>
            <a:br>
              <a:rPr sz="15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22040"/>
            <a:ext cx="7559640" cy="59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IV. Создание и совершенствование законодательства о техническом  регулирова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4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5. Требования к  разработке  проектов  технических  регламентов,  проектов изменений и дополнений к техническим регламентам, проектов законодательных актов об их принятии или отмене, а также требования к экспертизе и принятию технических регламентов и законодательных актов об их принятии либо отме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6. Требования к  разработке проектов  стандартов,  проектов  изменений  и дополнений к ним, порядок ввода в действие или отмены стандартов, а также требования к их экспертиз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V. Информационное обеспечение участников систем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ческого регулир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7. Общи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8. Требования к информационному     обеспечению      участников    системы технического   регулирования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 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ереходны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19. Переходные полож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а 20. Порядок введения в действие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33560" y="-270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316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604360" y="7128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393372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k@ivankravchenko.k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691920"/>
            <a:ext cx="806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ка соответст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6308640"/>
            <a:ext cx="324144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84280"/>
            <a:ext cx="7272360" cy="45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доказательство того, что заданные требования к продукции, процессу, системе, лицу или органу выполн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прямое или косвенное определение соблюдения требований, предъявляемых к объ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ценка соответствия – такого поняти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7775640" cy="60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тверждение соответств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6381720"/>
            <a:ext cx="324144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765000"/>
            <a:ext cx="7488360" cy="59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выдача заявления, основанная на принятом после проверки решении о том, что выполнение заданных требований доказ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документальное удостоверение соответствия продукции или иных объектов, процессов, проектирования (включая изыскания), производства, строительства, монтажа, наладки, эксплуатации, хранения, перевозки, реализации и утилизации, выполнения работ или оказания услуг требованиям технических регламентов, положениям стандартов, сводов правил или условиям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 соответствия – процедура, результатом которой является документальное удостоверение (в виде декларации о соответствии или сертификата соответствия) соответствия объекта требованиям, установленным техническими регламентами, стандартами, или условиям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784872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ерт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- подтверждение соответствия третьей сторо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носящееся к продукции, процессам, системам или персона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– форма осуществляемого органом по серт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тверждения соответствия объектов требованиям техниче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ламентов, положениям стандартов, сводов правил или услов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тификация – процедура посредством которой орган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тверждению соответствия письменно удостоверяет соотве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и, услуги установленным требов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56536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417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кредитация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/МЭК 17000-200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– подтверждение соответствия третьей стороной, относящееся к органу по оценке соответствия, служащее официальным доказательством  его компетентности для выполнения конкретных задач по оценке соответствия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– официальное признание органом по аккредитации компетентности физического или юридического лица выполнять работы в определенной области оценки соответствия.</a:t>
            </a:r>
            <a:br>
              <a:rPr sz="1800"/>
            </a:b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кредитация - процедура официального признания органом по аккредитации компетентности заявителя выполнять работы в определенной сфере по подтверждению соответствия объектов технического регулирования установленным требованиям.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8783640" y="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349360"/>
            <a:ext cx="0" cy="417528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6308640"/>
            <a:ext cx="316872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7488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ук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СО 9000-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З РФ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деятельности, представленны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ально-вещественной форме и предназначенный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ользования в хозяйственных и иных цел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кон РК «О техническом регулирован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ция – результат процесса ил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2492280"/>
            <a:ext cx="0" cy="417672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45336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7921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748720" y="71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492280"/>
            <a:ext cx="0" cy="410544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381720"/>
            <a:ext cx="338472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370160"/>
            <a:ext cx="7632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ля принятия однозначно реализуемых на практике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научиться давать операционные определения вс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евым понятиям»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Адлер Ю.П., Шпер В.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«Кризис сквозь призму глубинных знаний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Менеджмент качества №1, февраль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763272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Соглашение о единых принципах и правилах технического регулирования в Республике Беларусь, Республики Казахстан и Российской Федера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 создание Единого перечня продукции, в отношении которой устанавливаются обязательные треб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атья 3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 ТР создаются только на продукцию включенную в Единый перечень (Статья 4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 продукция в отношении которой принят ТР, выпускается в обращение только при условии, что она прошла необходимые процедуры оценки соответствия (подтвержд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татья 6 Соглаш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   оценка соответствия проводится в форме регистрации, испытания, подтверждения соответствия (декларирование соответствия, сертификация), экспертизы и или в и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Статья 7 Соглашения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736120" y="7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492280"/>
            <a:ext cx="0" cy="403236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33560" y="-334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7488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амбула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I. Общие положен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1. Общие положе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2. Структура государственной системы технического регулирова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3. Права  и  обязанности  физических  и  юридических  лиц  в  области технического регулирования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II. Требования к продукц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4. Общие положен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а 5. Обязательные требования к продукци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1.  Обязательные требования к продукци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§2. Обязательные требования к продукции для специальных групп потребителей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736120" y="71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2565360"/>
            <a:ext cx="0" cy="388800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6308640"/>
            <a:ext cx="331308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792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ект структуры закона Республики Казахстан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О техническом регулирован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4880" y="44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.Кравч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2:20:49Z</dcterms:created>
  <dc:creator> Кравченко И.М.</dc:creator>
  <dc:description/>
  <dc:language>en-US</dc:language>
  <cp:lastModifiedBy>User</cp:lastModifiedBy>
  <dcterms:modified xsi:type="dcterms:W3CDTF">2013-09-16T04:16:44Z</dcterms:modified>
  <cp:revision>228</cp:revision>
  <dc:subject/>
  <dc:title>УПРАВЛЕНИЕ ОРГАНИЗАЦИЕЙ                    НА ОСОНОВЕ СТРАТЕГИЧЕСКОГО ПЛАНИРОВАНИЯ</dc:title>
</cp:coreProperties>
</file>