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BBDD-2EF3-4582-946A-A983D6A4C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9AF8-290F-41E2-A20E-DF4094735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6A8D-6AA5-4DBD-9EA1-C94B69B05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F48C-80D9-4F5C-A7EA-F028111B5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DB6F-8BCF-4427-8F8F-7BA0158D2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5599-9CD8-456F-857B-B5BA63BF9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9005-DFCD-4967-9F1A-4FB732B58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CC50-15DF-449E-A9F3-B022561FE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3BA3-E406-4E58-BD1F-38DBAB6AB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04C3-458A-4551-84B7-C08E4A29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D92C-92C2-4369-BACA-1B48073B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A441-6FCE-46DA-A7D1-D378C511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F4112-3A88-4A8B-B982-D4B9C6FB3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16000" y="1916280"/>
            <a:ext cx="7416720" cy="32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инципы, по которы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ы должны жит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 по которым мы живё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172360" y="622440"/>
            <a:ext cx="43200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734080"/>
            <a:ext cx="81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нтябрь 2007 г.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ой Алматинский Международный Форум по Качест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761080" y="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.Крав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4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16000" y="620640"/>
            <a:ext cx="7416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Ценности ТОО «Беккер и К»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172360" y="622440"/>
            <a:ext cx="43200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-181080" y="62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58920" y="1268280"/>
            <a:ext cx="741672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Чистота на рабочем месте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Прозрачность ведения бизнес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Вовлеченность персонал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Взаимовыгодные отношения со всеми заинтересованными сторонам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Непрерывное совершенствование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Качество производимой продукции и оказываемых услуг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61080" y="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.Крав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71640" y="620640"/>
            <a:ext cx="7921440" cy="59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Политика в области качества ТОО «Беккер и К»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Политика</a:t>
            </a:r>
            <a:r>
              <a:rPr b="1" i="1" lang="en-US" sz="1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компании</a:t>
            </a:r>
            <a:r>
              <a:rPr b="1" i="1" lang="en-US" sz="1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в области</a:t>
            </a:r>
            <a:r>
              <a:rPr b="1" i="1" lang="en-US" sz="1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качества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это совокупность принципов и норм поведения,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на которых основываются решения, обеспечивающие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постановку и достижение целей в области качества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1.  Качество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производимых товаров и оказываемых услуг - главный приоритет и основа успешной деятельности компании. </a:t>
            </a: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Качество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- выше нормы прибыл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2. Требования к качеству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производимых товаров и оказываемых услуг определяются потребностями и ожиданиями потребителя и вековыми традициями потребления натуральных продуктов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3. Основа качества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– персонал компании. Компания создает условия для полной реализации способностей персонал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4. Основа улучшения качества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– постоянное обучение и самообучение персонал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5. Качество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продукции обеспечивается понятными для персонала требованиями и персональной ответственностью за выполняемую работу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6. Основной принцип работы персонала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– делай хорошо сразу, переделывать дороже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7. Качество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начинается с внутренней самодисциплины, чистой и опрятной рабочей формы, ежесекундного поддержания в чистоте территории, помещений, рабочего места и инструмента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Чистота – фирменный знак компани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8. Основа системы качества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– обязательное соблюдение положений, процедур, инструкций, технологических регламентов, составляющих систему качества компани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9. Качество получаемых от поставщиков сырья и материалов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определяет качество производимой продукци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10. Основа гарантии качества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-  своевременная профилактика систем, машин и механизмов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1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. Бережное отношение к ресурсам компании – экономическая основа для улучшения качества продукци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12. Все процессы на предприятии взаимосвязаны.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Каждый процесс является важной составляющей единого неразрывного процесса деятельности компании. Второстепенных процессов нет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13. Менеджмент процессов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должен быть системным. Системность не должна быть барьером для постоянного совершенствовани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14. Все решения в компании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принимаются на основе системного анализа, основанного на фактах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Всегда принимай честное решение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15. Руководитель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должен быть лидером в своем коллективе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16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. Уважительное отношение к </a:t>
            </a: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потребителям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, поставщикам, к коллегам по работе – норма поведения каждого работника компани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17. Охрана окружающей среды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неразрывно связана с повышением качества продукци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317080" y="54936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7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61080" y="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.Крав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8224920" y="612720"/>
            <a:ext cx="431640" cy="4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620640"/>
            <a:ext cx="7848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Цели в области качества ТОО «Беккер и К»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895760" y="1029240"/>
            <a:ext cx="6782760" cy="5314680"/>
            <a:chOff x="1895760" y="1029240"/>
            <a:chExt cx="6782760" cy="5314680"/>
          </a:xfrm>
        </p:grpSpPr>
        <p:cxnSp>
          <p:nvCxnSpPr>
            <p:cNvPr id="107" name="_s17417"/>
            <p:cNvCxnSpPr>
              <a:endCxn id="108" idx="2"/>
            </p:cNvCxnSpPr>
            <p:nvPr/>
          </p:nvCxnSpPr>
          <p:spPr>
            <a:xfrm flipV="1" rot="16200000">
              <a:off x="3732840" y="4721400"/>
              <a:ext cx="2121120" cy="1800"/>
            </a:xfrm>
            <a:prstGeom prst="bentConnector3">
              <a:avLst>
                <a:gd name="adj1" fmla="val 543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9" name="_s17418"/>
            <p:cNvCxnSpPr/>
            <p:nvPr/>
          </p:nvCxnSpPr>
          <p:spPr>
            <a:xfrm flipV="1">
              <a:off x="5260680" y="5963040"/>
              <a:ext cx="45000" cy="5760"/>
            </a:xfrm>
            <a:prstGeom prst="bentConnector4">
              <a:avLst>
                <a:gd name="adj1" fmla="val 227419"/>
                <a:gd name="adj2" fmla="val 460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0" name="_s17419"/>
            <p:cNvCxnSpPr/>
            <p:nvPr/>
          </p:nvCxnSpPr>
          <p:spPr>
            <a:xfrm>
              <a:off x="6892560" y="3297960"/>
              <a:ext cx="408600" cy="1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" name="_s17420"/>
            <p:cNvCxnSpPr>
              <a:stCxn id="112" idx="0"/>
            </p:cNvCxnSpPr>
            <p:nvPr/>
          </p:nvCxnSpPr>
          <p:spPr>
            <a:xfrm flipV="1" rot="16200000">
              <a:off x="5168880" y="3342600"/>
              <a:ext cx="171360" cy="1007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3" name="_s17421"/>
            <p:cNvCxnSpPr>
              <a:stCxn id="114" idx="0"/>
            </p:cNvCxnSpPr>
            <p:nvPr/>
          </p:nvCxnSpPr>
          <p:spPr>
            <a:xfrm flipH="1" flipV="1" rot="5400000">
              <a:off x="4149000" y="3330360"/>
              <a:ext cx="172440" cy="1032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5" name="_s17422"/>
            <p:cNvCxnSpPr>
              <a:stCxn id="116" idx="0"/>
              <a:endCxn id="117" idx="3"/>
            </p:cNvCxnSpPr>
            <p:nvPr/>
          </p:nvCxnSpPr>
          <p:spPr>
            <a:xfrm flipV="1" rot="16200000">
              <a:off x="7454880" y="2386080"/>
              <a:ext cx="580320" cy="351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8" name="_s17423"/>
            <p:cNvCxnSpPr/>
            <p:nvPr/>
          </p:nvCxnSpPr>
          <p:spPr>
            <a:xfrm flipV="1">
              <a:off x="7912440" y="3645000"/>
              <a:ext cx="1080" cy="327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9" name="_s17424"/>
            <p:cNvCxnSpPr>
              <a:stCxn id="108" idx="3"/>
            </p:cNvCxnSpPr>
            <p:nvPr/>
          </p:nvCxnSpPr>
          <p:spPr>
            <a:xfrm rot="10800000">
              <a:off x="4760640" y="2487960"/>
              <a:ext cx="783000" cy="718560"/>
            </a:xfrm>
            <a:prstGeom prst="bentConnector3">
              <a:avLst>
                <a:gd name="adj1" fmla="val 1000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0" name="_s17425"/>
            <p:cNvCxnSpPr>
              <a:stCxn id="121" idx="0"/>
              <a:endCxn id="122" idx="1"/>
            </p:cNvCxnSpPr>
            <p:nvPr/>
          </p:nvCxnSpPr>
          <p:spPr>
            <a:xfrm rot="5400000">
              <a:off x="1753560" y="2260440"/>
              <a:ext cx="1321560" cy="697680"/>
            </a:xfrm>
            <a:prstGeom prst="bentConnector4">
              <a:avLst>
                <a:gd name="adj1" fmla="val -8719"/>
                <a:gd name="adj2" fmla="val -15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3" name="_s17426"/>
            <p:cNvCxnSpPr>
              <a:stCxn id="117" idx="0"/>
              <a:endCxn id="124" idx="2"/>
            </p:cNvCxnSpPr>
            <p:nvPr/>
          </p:nvCxnSpPr>
          <p:spPr>
            <a:xfrm flipV="1" rot="16200000">
              <a:off x="5646960" y="834840"/>
              <a:ext cx="274680" cy="1952280"/>
            </a:xfrm>
            <a:prstGeom prst="bentConnector3">
              <a:avLst>
                <a:gd name="adj1" fmla="val 419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5" name="_s17427"/>
            <p:cNvCxnSpPr>
              <a:stCxn id="126" idx="0"/>
              <a:endCxn id="124" idx="2"/>
            </p:cNvCxnSpPr>
            <p:nvPr/>
          </p:nvCxnSpPr>
          <p:spPr>
            <a:xfrm flipH="1" flipV="1" rot="5400000">
              <a:off x="4664520" y="1803600"/>
              <a:ext cx="274680" cy="14760"/>
            </a:xfrm>
            <a:prstGeom prst="bentConnector3">
              <a:avLst>
                <a:gd name="adj1" fmla="val 419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7" name="_s17428"/>
            <p:cNvCxnSpPr>
              <a:stCxn id="121" idx="0"/>
              <a:endCxn id="124" idx="2"/>
            </p:cNvCxnSpPr>
            <p:nvPr/>
          </p:nvCxnSpPr>
          <p:spPr>
            <a:xfrm flipH="1" flipV="1" rot="5400000">
              <a:off x="3648600" y="788040"/>
              <a:ext cx="274680" cy="2046240"/>
            </a:xfrm>
            <a:prstGeom prst="bentConnector3">
              <a:avLst>
                <a:gd name="adj1" fmla="val 419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4" name="_s17429"/>
            <p:cNvSpPr/>
            <p:nvPr/>
          </p:nvSpPr>
          <p:spPr>
            <a:xfrm>
              <a:off x="4050360" y="1029240"/>
              <a:ext cx="1516680" cy="645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увеличить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прибыль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компании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на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__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17430"/>
            <p:cNvSpPr/>
            <p:nvPr/>
          </p:nvSpPr>
          <p:spPr>
            <a:xfrm>
              <a:off x="1895760" y="1948320"/>
              <a:ext cx="1733400" cy="6458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увеличить рентабельность продукции до __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17431"/>
            <p:cNvSpPr/>
            <p:nvPr/>
          </p:nvSpPr>
          <p:spPr>
            <a:xfrm>
              <a:off x="3985560" y="1948320"/>
              <a:ext cx="1617840" cy="6458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увеличить  оборот предприятия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на __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7432"/>
            <p:cNvSpPr/>
            <p:nvPr/>
          </p:nvSpPr>
          <p:spPr>
            <a:xfrm>
              <a:off x="5951520" y="1948320"/>
              <a:ext cx="1617840" cy="6458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снизить долю текущих активов в структуре активов с __% до __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17433"/>
            <p:cNvSpPr/>
            <p:nvPr/>
          </p:nvSpPr>
          <p:spPr>
            <a:xfrm>
              <a:off x="2066040" y="2955240"/>
              <a:ext cx="1461240" cy="6274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увеличить затраты на ремонт оборудования  не более чем на __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17434"/>
            <p:cNvSpPr/>
            <p:nvPr/>
          </p:nvSpPr>
          <p:spPr>
            <a:xfrm>
              <a:off x="4042080" y="2750400"/>
              <a:ext cx="1501920" cy="9115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повысить  производительность труда на __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17435"/>
            <p:cNvSpPr/>
            <p:nvPr/>
          </p:nvSpPr>
          <p:spPr>
            <a:xfrm>
              <a:off x="6666480" y="3864960"/>
              <a:ext cx="1868040" cy="7977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снизить срок оборачиваемости дебиторской задолженности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с __ до __ дне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7436"/>
            <p:cNvSpPr/>
            <p:nvPr/>
          </p:nvSpPr>
          <p:spPr>
            <a:xfrm>
              <a:off x="7161480" y="2852280"/>
              <a:ext cx="1517040" cy="801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снизить длительность финансового  цикла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с __ до __ дне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7437"/>
            <p:cNvSpPr/>
            <p:nvPr/>
          </p:nvSpPr>
          <p:spPr>
            <a:xfrm>
              <a:off x="2915640" y="3933000"/>
              <a:ext cx="1606680" cy="6832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снизить выпуск несоответствующей продукции на __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17438"/>
            <p:cNvSpPr/>
            <p:nvPr/>
          </p:nvSpPr>
          <p:spPr>
            <a:xfrm>
              <a:off x="4929480" y="3932280"/>
              <a:ext cx="1657440" cy="6638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снизить текучесть сотрудников предприятия до __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17439"/>
            <p:cNvSpPr/>
            <p:nvPr/>
          </p:nvSpPr>
          <p:spPr>
            <a:xfrm>
              <a:off x="5683320" y="2916360"/>
              <a:ext cx="1283760" cy="6854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снизить срок оборачиваемости ТМЗ с __ до __ дне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17440"/>
            <p:cNvSpPr/>
            <p:nvPr/>
          </p:nvSpPr>
          <p:spPr>
            <a:xfrm>
              <a:off x="3833640" y="4759560"/>
              <a:ext cx="1835640" cy="7311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увеличить среднюю заработную плату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на __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17441"/>
            <p:cNvSpPr/>
            <p:nvPr/>
          </p:nvSpPr>
          <p:spPr>
            <a:xfrm>
              <a:off x="3935520" y="5698800"/>
              <a:ext cx="1733400" cy="645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увеличить прибыль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компании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на __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5761080" y="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.Крав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224920" y="612720"/>
            <a:ext cx="431640" cy="4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42920" y="620640"/>
            <a:ext cx="770580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влечение персон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   учёба высшего руководства и менеджер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бучающие семинары, конгрессы, форумы и т.д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   учёба персонала на предприятии с участи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сшего руководства и менеджер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    разработка процедур положений, инструкций и т.д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)     кружки каче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)    тренинг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)    авторские предложе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)    внутренний ауди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)     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истема организации рабочего мес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)     диаграмма Исикав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)     сравнение с миссией, видением, ценностями и политикой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приятия в области кач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61080" y="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.Крав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8224920" y="612720"/>
            <a:ext cx="431640" cy="4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351080" y="692280"/>
            <a:ext cx="73976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Диаграмма Исикав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30520" y="4014720"/>
            <a:ext cx="5059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018040" y="2641680"/>
            <a:ext cx="822240" cy="1373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32200" y="2641680"/>
            <a:ext cx="758880" cy="1373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5334120" y="4014360"/>
            <a:ext cx="758880" cy="1305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070520" y="4014360"/>
            <a:ext cx="758520" cy="1373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616120" y="3946680"/>
            <a:ext cx="758880" cy="1373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868120" y="4906800"/>
            <a:ext cx="506520" cy="549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362320" y="4357800"/>
            <a:ext cx="633240" cy="274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3564000" y="4906440"/>
            <a:ext cx="822240" cy="274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4638240" y="4425840"/>
            <a:ext cx="506520" cy="619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5524560" y="4906440"/>
            <a:ext cx="947520" cy="343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09960" y="2779560"/>
            <a:ext cx="1201680" cy="479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436560" y="2916360"/>
            <a:ext cx="127080" cy="75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892760" y="3465360"/>
            <a:ext cx="758880" cy="138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460480" y="2916360"/>
            <a:ext cx="822600" cy="480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5334120" y="2709720"/>
            <a:ext cx="442800" cy="344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616800" y="3533760"/>
            <a:ext cx="184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ahoma"/>
              </a:rPr>
              <a:t>Объе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ahoma"/>
              </a:rPr>
              <a:t>Анали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ahoma"/>
              </a:rPr>
              <a:t>(результа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05840" y="5870520"/>
            <a:ext cx="601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ahoma"/>
              </a:rPr>
              <a:t>Причинные факторы (характеристик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793880" y="2160720"/>
            <a:ext cx="1841400" cy="47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Материалы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666800" y="5456160"/>
            <a:ext cx="1297080" cy="47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993366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Методы</a:t>
            </a:r>
            <a:endParaRPr b="0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993366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587920" y="5456160"/>
            <a:ext cx="1462320" cy="47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Машины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386240" y="2160720"/>
            <a:ext cx="1770120" cy="47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Измерения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691080" y="5456160"/>
            <a:ext cx="939600" cy="47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Люди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61080" y="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.Крав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8224920" y="612720"/>
            <a:ext cx="431640" cy="4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00000" y="981000"/>
            <a:ext cx="784872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нятие решений, основанных на факт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)    факт – это достоверная информац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)    факт – статистика – анализ – реш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)     управление организацией прозрачным способ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)    качество и нало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Для успешного руководства организацией и её функционирования, необходимо направлять её и управлять ею систематически и прозрачным способом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ункт 0.2, ИСО 9000: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61080" y="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.Крав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646200" y="1844640"/>
            <a:ext cx="8497800" cy="4167360"/>
            <a:chOff x="646200" y="1844640"/>
            <a:chExt cx="8497800" cy="4167360"/>
          </a:xfrm>
        </p:grpSpPr>
        <p:grpSp>
          <p:nvGrpSpPr>
            <p:cNvPr id="166" name=""/>
            <p:cNvGrpSpPr/>
            <p:nvPr/>
          </p:nvGrpSpPr>
          <p:grpSpPr>
            <a:xfrm>
              <a:off x="646200" y="1844640"/>
              <a:ext cx="8497800" cy="4167360"/>
              <a:chOff x="646200" y="1844640"/>
              <a:chExt cx="8497800" cy="4167360"/>
            </a:xfrm>
          </p:grpSpPr>
          <p:pic>
            <p:nvPicPr>
              <p:cNvPr id="16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46200" y="1844640"/>
                <a:ext cx="8497800" cy="416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8" name=""/>
              <p:cNvSpPr/>
              <p:nvPr/>
            </p:nvSpPr>
            <p:spPr>
              <a:xfrm>
                <a:off x="1619280" y="3645000"/>
                <a:ext cx="936720" cy="64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2916360" y="3716280"/>
              <a:ext cx="100800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900000" y="612720"/>
            <a:ext cx="7848720" cy="5048280"/>
            <a:chOff x="900000" y="612720"/>
            <a:chExt cx="7848720" cy="5048280"/>
          </a:xfrm>
        </p:grpSpPr>
        <p:sp>
          <p:nvSpPr>
            <p:cNvPr id="171" name=""/>
            <p:cNvSpPr/>
            <p:nvPr/>
          </p:nvSpPr>
          <p:spPr>
            <a:xfrm>
              <a:off x="8224920" y="612720"/>
              <a:ext cx="431640" cy="432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900000" y="907920"/>
              <a:ext cx="7848720" cy="47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ремия Президента Республики Казахст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в области качеств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47640" y="3645000"/>
              <a:ext cx="11527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Лидирующая роль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уководства 10%  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59280" y="2924280"/>
              <a:ext cx="720720" cy="43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71640" y="3645000"/>
              <a:ext cx="13669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олитика и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тратегия в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области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качества 10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916360" y="4581360"/>
              <a:ext cx="100800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63720" y="4541760"/>
              <a:ext cx="1366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артнерство и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есурсы               8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00360" y="2924280"/>
              <a:ext cx="13669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ерсонал              10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284720" y="3645000"/>
              <a:ext cx="792000" cy="72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010040" y="3559320"/>
              <a:ext cx="13669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роцессы,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осуществляемые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организацией             12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699160" y="4991040"/>
              <a:ext cx="647640" cy="13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08720" y="4557600"/>
              <a:ext cx="1008000" cy="45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21160" y="4537080"/>
              <a:ext cx="1440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Результаты, касающиеся общества  7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0000" y="2852640"/>
              <a:ext cx="93672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292720" y="2852640"/>
              <a:ext cx="1440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Результаты, касающиеся персонала  9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0000" y="3716280"/>
              <a:ext cx="936720" cy="55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07120" y="3672000"/>
              <a:ext cx="14396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Результаты, касающиеся потребителей    20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877080" y="3573360"/>
              <a:ext cx="863640" cy="86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659640" y="3573360"/>
              <a:ext cx="14396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Основные  деловые результаты        14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761080" y="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.Крав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8224920" y="612720"/>
            <a:ext cx="431640" cy="4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76160" y="2852640"/>
            <a:ext cx="828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Качество во имя лучшей жизн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761080" y="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.Крав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19640" y="393372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.Крав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vankravchenko.k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k@ivankravchenko.k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4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16000" y="1196640"/>
            <a:ext cx="7416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семь принципов менеджмента 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)    ориентация на потребител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)    лидерство руководителя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)    вовлечение работников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)     процессный подход 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)    системный подход к менеджменту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)    постоянное улучшение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)    принятие решений, основанных на фактах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)    взаимовыгодные отношения с поставщик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ункт 0.2, ИСО 9000: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172360" y="622440"/>
            <a:ext cx="43200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181080" y="62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761080" y="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.Крав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4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16000" y="1483920"/>
            <a:ext cx="74167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«Суть экономики во многом может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быть передана в четырех словах: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«Люди реагируют на стимулы»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Всё остальное – комментарии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Стивен Ландсберг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172360" y="622440"/>
            <a:ext cx="43200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181080" y="62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61080" y="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.Крав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4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71280" y="836640"/>
            <a:ext cx="7561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дерство руководи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 разработке и создании систем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неджмента качества в организ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    изучите стандарт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    пройдите учёбу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     посещайте конгрессы, форумы, симпозиумы и.т.д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)      регулярно читайте всё что печатают о качеств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)     используйте интернет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)     не торопитесь нанимать консультанто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)     не назначайте представителя руководства по качеств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ой со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ньте лидером в своем коллективе в области системного менеджмента, начиная прямо с принятие решения о разработке системы менеджмента каче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172360" y="622440"/>
            <a:ext cx="43200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181080" y="62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61080" y="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.Крав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00000" y="620640"/>
            <a:ext cx="78487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оль высшего руководства в системе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неджмента качества должна проявляться пр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а)   разработке и поддержании политики и целей  организации в области качества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б)   популяризации политики и целей в области  качества во всей организации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для повышения осознания, мотивации и вовлечения персонала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в)   обеспечении ориентации на требования потребителей во всей организации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г)    обеспечении внедрения соответствующих процессов, позволяющих выполнять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требования потребителей и других заинтересованных сторон и достигать целе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в области качества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д)   обеспечении разработки, внедрения и   поддержания в   рабочем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состоянии   эффективной системы менеджмента качества для достижения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целей в области качества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е)   обеспечении необходимыми ресурсами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ж)   проведении периодического анализа системы менеджмента качества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з)    принятии решений в отношении политики и целей в области качества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и)    принятии решений по мерам улучшения системы менеджмента качеств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ункт 2.6, ИСО 9000: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224920" y="612720"/>
            <a:ext cx="431640" cy="4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761080" y="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.Крав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4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971280" y="836640"/>
            <a:ext cx="7561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дерство руководи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 разработке и созданию систем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неджмента качества в организ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    изучите стандарт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    пройдите учёбу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     посещайте конгрессы, форумы, симпозиумы и.т.д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)      регулярно читайте всё что печатают о качеств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)     используйте интернет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)     не торопитесь нанимать консультанто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)     не назначайте представителя руководства по качеств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ой со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ньте лидером в своем коллективе в области системного менеджмента, начиная прямо с принятие решения о разработке системы менеджмента каче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172360" y="622440"/>
            <a:ext cx="43200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-181080" y="62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61080" y="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.Крав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4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476360" y="1052640"/>
            <a:ext cx="7416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бственные разрабо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) мисс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) вид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) цен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)  политика в области каче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) цели в области каче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) структура управ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) шесть основных процеду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)  стратегический план по внедр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стем менеджме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172360" y="622440"/>
            <a:ext cx="43200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-181080" y="62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61080" y="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.Крав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4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116000" y="1052640"/>
            <a:ext cx="7416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Миссия ТОО «Беккер и К»: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172360" y="622440"/>
            <a:ext cx="43200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-181080" y="62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42920" y="2852640"/>
            <a:ext cx="741672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Сохранить традиции потребления натуральных продуктов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761080" y="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.Крав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4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16000" y="1052640"/>
            <a:ext cx="7416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Видение ТОО «Беккер и К»: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172360" y="622440"/>
            <a:ext cx="43200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-181080" y="62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42920" y="2421000"/>
            <a:ext cx="741672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Стать региональным лидером в производстве и реализации натуральных продуктов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761080" y="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.Крав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07:11:16Z</dcterms:created>
  <dc:creator>И.М. Кравченко</dc:creator>
  <dc:description>Форум 2007 </dc:description>
  <dc:language>en-US</dc:language>
  <cp:lastModifiedBy>User</cp:lastModifiedBy>
  <dcterms:modified xsi:type="dcterms:W3CDTF">2013-09-16T04:07:54Z</dcterms:modified>
  <cp:revision>47</cp:revision>
  <dc:subject/>
  <dc:title> </dc:title>
</cp:coreProperties>
</file>